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BD2C-76BD-4ED2-90D7-2C76E5371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0796-6CD0-4E7E-B5B3-E3CD55F09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4ABC-B54B-4EDF-9108-8E18FDDD05A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50B7-D6EF-4CCB-AC2F-0CD09C31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74B-AA3F-466E-B4EA-2FEB1B7C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8BEC-AB30-472F-B2DD-8A424380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5636-1531-4C45-AFC2-49493995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2D99-9134-4824-B0E4-E7E0BF89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EC21-268B-41ED-89E1-17142729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7D13-FCC0-4BFC-A592-226222D1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1C82-ED6B-4D72-BF72-B2271C05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49D5-008D-4AF1-AC65-ED39470E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9AEA-49E5-4754-AE2B-1F55D81E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60AA-F3C5-42D3-8FE3-B856741F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903-EED9-4B2A-9429-30DB5896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696F-9B9C-40AE-81A7-EF06062E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4BAF-DD85-4685-A1F6-AA5045C2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1F52-2983-4973-98AA-BD2E79EB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9E53-3A3F-48B0-8148-BD3F1710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BDD8-01EA-455E-B807-60535D3F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7E5-EEF7-4DF7-9CB0-A037488B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6D2-8D61-478E-BA90-D2CDF9B1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AB79-1F90-4776-B28B-A2AF61DB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9C73-8E6B-4BED-ADB6-0C1FAE9E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F44-CAE0-42BD-BF72-82B28B48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2BA-BDDE-4B12-A748-40626DC7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99D-6FE7-481E-8F0B-403E3E68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A733-BDC8-4E42-9A3F-515FEC1A0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17D7-2481-4674-9C3D-DDAC0118A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0012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br>
              <a:rPr sz="2800"/>
            </a:b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B16 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АРМАКОЛОГИЈА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1</a:t>
            </a:r>
            <a:br>
              <a:rPr sz="2800"/>
            </a:br>
            <a:br>
              <a:rPr sz="2800"/>
            </a:b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АНТИДЕПРЕСИВИ</a:t>
            </a:r>
            <a:br>
              <a:rPr sz="2800"/>
            </a:b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недељ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5000760"/>
            <a:ext cx="640080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98989"/>
                </a:solidFill>
                <a:latin typeface="Calibri"/>
              </a:rPr>
              <a:t>Проф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. др </a:t>
            </a:r>
            <a:r>
              <a:rPr b="0" lang="sr-CS" sz="2400" spc="-1" strike="noStrike">
                <a:solidFill>
                  <a:srgbClr val="898989"/>
                </a:solidFill>
                <a:latin typeface="Calibri"/>
              </a:rPr>
              <a:t>Марина Кост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2000160" y="428760"/>
            <a:ext cx="504036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рмаколошки приступ у лечењу депресије 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депреси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Атипични антидепресив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бупропион, миртазапин, тразодон, нефазодо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Трициклични антидепресив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амитриптилин, амоксапин, кломипрамин, дезипрамин, доксепин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мипрами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мапротилин, нортриптилин, тримипрами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рмаколошки приступ у лечењу депресије 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депреси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Инхибитори моноамино оксидаз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енелзин, селегилин, транилципромин, моклобеми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Стабилизатори расположењ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користе се у терапији маније и биполарних поремећаја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ли литијума, карбамазепин, валпроична кисел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КАЦИО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РУЧ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ТИДЕПРЕС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ниполар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прес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пресив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пизо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курент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пресив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полар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пре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пресиј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матски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мптоми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ланхолијо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сихотич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пре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типич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прес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тимиј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ронич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прес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ДИКАЦИОНО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ДРУЧЈЕ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ИДЕПРЕСИ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ксиоз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емећа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нич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бич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емећа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сесив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улсив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трауматск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ес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ТС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ут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е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енерализова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ксиоз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А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емећа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хра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лим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орекс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uresi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ctu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Селективни блокатори преузимања серотонина – SSR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луоксетин, циталoпрaм, есциталопрaм, флувоксамин, пароксетин и сертрали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Механизам деј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селективно инхибирају преузимање серотонина у пресинаптичке нервне завршет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њи афинитет ка мускаринским, адренергичким, хистаминским рецептори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лективни инхибитори преузимања серотонина – Фармакокине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кон оралне примене адекватна ресорпциј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. c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крви се постиже после 2-8 са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ма значајнијих интеракција са хран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осим код сертралина где присуство хране ресорпцију може чак и да повећ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ви се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елиминиш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 преко бубрега, сем сертрал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лективни инхибитори преузимања серотонина – механизам деј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локирају селективно преузимање серотонина, што доводи до повећања концентрације овог медијатора у синаптичкој пукоти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ви бенефит тек након две недеље од почетка примене терапије, максималан ефекат тек након 12 недеља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ови избора када је у питању депрес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лективни инхибитори преузимања серотонина – представници и индикациј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Хетерогена структура антидепресивних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Флуоксети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(Prozac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Flunirin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ароксети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(Seroxat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ертралнин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Zoloft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Есциталопрам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(Cipralex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лективни инхибитори преузимања серотонина – представници и индикациј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кациј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Велика депре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сесивно компулсивни поремећаји (флувоксам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ади пан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нерализована анксиоз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рауматски стрес синд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менструални дисфорични синдр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imia nervosa (флуоксет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620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о сертралин подлеже интензивном метаболизму првог проласка кроз јет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стрибуција је равномер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½ је између 16 и 36 са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аболизам  - цитохром P-450 (уз каснију коњугацију са сулфатима или глукуронидима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аболити углавном немају додатна фармаколошка дејства (сем флуоксетин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прес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пресија – често обољ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18% становништва узраста 15-54 година, чешћа код жена (20-25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сихијатријски поремећај који се одликуј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ипертимијом туге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к су све остале психичке функције "снижене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ње у којем се особа осећа обесхрабрено, тужно, безнадежно, немотивисано и без интересовања према свакодневним садржајима живо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армакокинетика, механизам дејства, индикације и нежељена дејства флуоксетина и пароксетина и флувоксами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964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½ ф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оксетина је дуж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о 50 сати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аболисањем настаје  његов с-енантиомер метаболит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 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норфлуоксет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који ј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једнако потентан као и основни л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опрез при увођењу МАО инхибитора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чајна је и инхибиција ензимског система јетре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YP2D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што се може одразити на елиминацију TCA, неких неуролошких лекова, антиаритмика и алфа или бета блокат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лувоксамин је инхибитор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YP3А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жељена дејства селективних инхибитора преузимања серотонин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SRIs имају мањи степен нежељенихреакција у односу на класичне антидепресив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ТCA и МАО инхибитора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гурнији су приликом предозирања и много се боље поднос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 ипак, степен интеракција са другим лековима носи значајан ризик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жељена дејства селективних инхибитора преузимања серотон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јчешћа нежељена дејства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јачано знојење, анксиозност, агитација, дигестивне тегобе (мука, повраћање, пролив), малаксалост, осећај умора, поремећај сексуалне функције, промена телесне тежине и поремећај спавања (поспаност или несаниц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жељена дејства селективних инхибитора преузимања серотон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ароксетин и флувоксамин изразитији седатив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 осталих, па имају предност код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депресивних пацијената са несаниц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050"/>
                </a:solidFill>
                <a:uFillTx/>
                <a:latin typeface="Arial"/>
              </a:rPr>
              <a:t>Сертралин и флуоксети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шће изазивају 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Arial"/>
              </a:rPr>
              <a:t>несаниц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 могу бити од користи код 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Arial"/>
              </a:rPr>
              <a:t>депресивних пацијената са изразитом сомноленциј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ротонински синдро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отонински синдром представља веома озбиљ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линич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е резултовати фаталним исходи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стоји се од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психичких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, аутономних и неуромускуларних промен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алих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услед уношења великих доза једног, или комбинације више лекова који могу повећати концентрацију серотонина у мозг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ротонински синдр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сихичке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 промен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онфузија, агитација, хиперактивност, делиријума, поспаност,ко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имптоми везани за АН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хипертермија, појачано знојење, тахикардија, хипертензија, проширене зенице, дрхтање, црвенило коже ли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Неуромишићна хиперактивнос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нифестује у виду клонуса (грчевити трз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шића), хиперрефлексије (појачани рефлекси), атаксије (смањена кординација током вољних покрет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ремора (дрхтање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еротонински синдр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907560"/>
            <a:ext cx="3754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азива га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комбинација МАО инхибитора са блокаторима преузимања серотонина или било којим другим леком који потенцира активност серотонина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меперидин, пентазоцин, декстрометорфан, фенфлурамин, ретко и трициклици, л-триптофан, буспирон, суматриптан, дихидроерготамин, амфетамин, кокаи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ротонински синдр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терана активација 5HT1 i 5HT2 рецепт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зрокују га SSRIs, (посебноу случају комбиновања са MAO инхибиторим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рапија: обустава примене лекова, хоспитализација уз надокнаду течности, снижавање телесне температуре антипиретицима и расхлађивањем оболелог, примена бензодиазеп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ецифична терапија: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ципрохептад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селективни блокатор 5HT2 рецепт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хибитори преузимања серотонина и норадреналина – представници , механизам дејст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нлафаксин, дулоксет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енлафлаксин и дулоксетин инхибирају преузимање и серотонина и норадренал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ма модулације активности мускаринских, хистаминских  и адренергичких рецепт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останак ефекта на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RIs –е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ар избор уколико уз депресију постоји и хронични болни сидр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аболизам‒ преко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P2D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офор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њују се једном днев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пропион – механизам дејства, индикације и нежељена дејств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типични антидепреси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хибира преузимање норадреналина и допам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обрен за терапију синдрома обуставе код пушача.(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кратко!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аболише се у јетри ( има изузетно низак потенцијал интеракција са другим лековим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прес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ипови депрес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 depre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 (Велика депресија) подразумева хипертимију туге са сниженим тонусом осталих психичких функција које трају дуже од 2 недеље.  Стање узроковано неким тужним догађајем ... Може се јавити пар пута у животу, а може се понављати и чешће. Значајан је утицај овог типа депресије на радну способност, живот уопште. Значајан је и снижен животни нагон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sthymia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истимија) мање озбиљан поремећај у односу на велику депресивну епизоду. Подразумева исте симптоме као велика депресивна епизода, углавном снижен енергетски тонус, смањен апетит или појачан апетит, несаницу или претерано дуг сан. Може се манифестовати и као стрес, иритабилност, умерена анхедониј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polar disor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Биполарни поремећај) - стање у којем се смењују циклуси депресије и хипоманије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пропион – механизам дејства, индикације и нежељена деј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Његову употребу прате многа нежељена дејства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есаница, сува уста, појачано знојење, нервоза, тремор, сексуална дисфункција код малог броја пацијен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Бупропион у дозама већим од 450 мг изазива конвулзије; такође може деловати као стимуланс – агитација, анорексија, несан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ртазапин - механизам дејства, индикације и нежељена дејст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Механизам дејства: повећава концентрацију серотонина и норадреналина, највероватније блокирајући пресинаптичке 2 адренергичке рецепто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тидепресивна дејства приписују с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блокади пресинаптичких 5-HТ2 рецептор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чајна је 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блокада хистаминских рецепто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седација (предност код пацијената са инсомнијом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ећа апетит и Т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аболизам – преко више изофотми цитохрома (2Д6, 3А4, 1А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ма антимускаринских нежељених ефеката нити поремећаја сексуалне фун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фазодон и тразодон - механизам дејства, индикације и нежељена дејст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ефазодон и тразодон су слаби инхибитори преузимања серотони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Њихово се терапијско дејство најчешће приписује блокади постсинаптичких серотонинских, 5-HТ2А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ада Х1 - седа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Хепатотоксичнос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!!!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ефазодо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ициклични антидепресиви – представници, механизам дејства и индик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и прстена, цикл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пституције на три пози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цијарни ам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ипрамин, амитриптилин (Amzyol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, кломипрамин (Anafranil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ундарни ам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моксапин, мапротилин (Maprotin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Ludiomil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еселективно блокирају преузимање серотонина и норадреналина – повећање количине моноам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!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циклични антидепресиви – представници, механизам дејства и индик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тко се корист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останак одговора на SSRIs –е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кације - умерена и озбиљна депресија, панични поремећај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асност: неселективност према другим рецепторима: адренергичким, хистаминским, мускаринским рецепторима!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рмакокинетика трицикличних антидепрес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ра aпсорпција након оралне при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посолубилнос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 значај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дистрибуција по читавом организм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ла биорасположиво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лиминишу се путем ури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жељена дејства трицикличних антидепресив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жељена дејства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нтимсукарински ефекти (М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e46c0a"/>
                </a:solidFill>
                <a:latin typeface="Arial"/>
              </a:rPr>
              <a:t>ортостатска хипотензија, вртоглавица, рефлексна тахикардија (</a:t>
            </a:r>
            <a:r>
              <a:rPr b="1" lang="el-GR" sz="2400" spc="-1" strike="noStrike">
                <a:solidFill>
                  <a:srgbClr val="e46c0a"/>
                </a:solidFill>
                <a:latin typeface="Arial"/>
              </a:rPr>
              <a:t>α</a:t>
            </a:r>
            <a:r>
              <a:rPr b="1" lang="en-US" sz="2400" spc="-1" strike="noStrike">
                <a:solidFill>
                  <a:srgbClr val="e46c0a"/>
                </a:solidFill>
                <a:latin typeface="Arial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седација (Х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ећање Т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емећеј сексуалне функције – ретк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зак терапијски индекс – (одређивање концентрације лекова у крв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Д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з – коморбидитет (болести простате, епилепсија, аритм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НОАМИНО ОКСИДА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МАО – митохондр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рвни завршеци, јетра, црева, тромбоци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АО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дреналин, норадреналин, серотон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АО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АО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А/В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рамин (симпатомиметски амини), доп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0000"/>
                </a:solidFill>
                <a:uFillTx/>
                <a:latin typeface="Arial"/>
              </a:rPr>
              <a:t>Антидепесивни ефекат – МАО</a:t>
            </a:r>
            <a:r>
              <a:rPr b="1" lang="sr-CS" sz="2400" spc="-1" strike="noStrike" u="sng" baseline="-25000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1" lang="sr-CS" sz="2400" spc="-1" strike="noStrike" u="sng">
                <a:solidFill>
                  <a:srgbClr val="ff0000"/>
                </a:solidFill>
                <a:uFillTx/>
                <a:latin typeface="Arial"/>
              </a:rPr>
              <a:t> (бар 85%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хибитори моноаминооксидазе – механизам дејства, представници груп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селективни (иреверзибилн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енелзин, транилципро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О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електив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Arial"/>
              </a:rPr>
              <a:t>Моклобемид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реверзибилн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О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електив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легилин (антипаркинсони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ибитори моноаминооксидазе – механизам дејства, представници груп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Дејством ових лекова се ослобађа повишена концентрација норадреналина, серотонина и допамина унутар неурон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ви лекови не инхибирају ензим само у мозгу (МАО-B изоензим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его и у зиду црева, јетри и адренергичким неуроним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(МАО-А изоензим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ећана количина норадреналина у периферним адренергичним неуронима доводи до наглог повећања крвног притиска и до хипертензивних криз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фенелзин, транилципромин, и селеги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прес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. –антидепресиви најпрописованији лекови у САД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арна индикација за прописивање антидепресива је велики депресивни поремећај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цијенти који болују од депресије чешће болују од болести коронарних артерија, ДМ-а, можданог удара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акције инхибитора моноаминооксидазе са храном богатом тирамино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требу МАО инхибитора прати појава честих и непредвидљивих нежељених ефеката која је последица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интеракција са храном или неким другим лекови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Због овога је њихова употреба ограниче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цијентима на неселективним МАО инхибиторимна се мора назначити да избегавају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рану богату тирамин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 случају да дође до овакве реакције, у лечењу тирамином–узроковане хипертензије с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њују фентоламин или празоси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рмаколошко дејство инхибитора моноаминооксидаз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тидепресивни ефекат очекујемо тек након пар недељ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типична депрес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останак ефеката Т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ар избор код смањене психомототрне актив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ар избор- моклобемид због веће селективности има предно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рмакокинетика инхибитора моноаминооксидаз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ра апсорпција након оралне при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фекат – након 2-4 недељ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 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ериод – неколико недељ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лиминац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утем бубре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ежељена дејства инхибитора моноаминооксидаз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О инхибитори доводе и до ортостатске хипотензије, вртоглавице, помућеног вида, сувих уста, дизурије и опстип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Контраиндикована је примене МАО инхибитора и SSRIs заједно јер постоји опасност од серотонинског синдро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олико се једна група лекова замењује другом неопходан је двонед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 период без леков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Washout peri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оси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д примен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луоксетина после кога пауза мора бити најмање 6 недељ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У току истовремене примене бупропиона и МАО инхибитора може доћи до конвулзиј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Литијум у терапији маније и биполарних поремећаја – механизам дејст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940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оди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XX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ека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‒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устралијс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сихијатар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Џ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еј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d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ткри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литију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миру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гитира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знемире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сихотич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ацијент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анс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страживач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Ш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ou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писао да се симптоми маније повлаче након приме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итијума, као и да литијум спречава развој симпто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иполарног поремећај.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брз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ме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л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итију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у терапиј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иполарн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ремећаја се увод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нтиконвулзив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еков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валпроат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и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карабамазепи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рода биполарног поремећа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3% одрасле популације (3.-4. деценија живо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одична анамнеза!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лике маничних епозода: узнемиреност, ексцитација, хиперактивност, импулсивност, агресивност, психотични симптоми, инсомнија, когнитивни дефицит (али не код свих пацијена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пресивна фаза – одлике МДД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абилизатори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положе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26920" y="1989000"/>
          <a:ext cx="7772400" cy="4540320"/>
        </p:xfrm>
        <a:graphic>
          <a:graphicData uri="http://schemas.openxmlformats.org/drawingml/2006/table">
            <a:tbl>
              <a:tblPr/>
              <a:tblGrid>
                <a:gridCol w="2449800"/>
                <a:gridCol w="3095640"/>
                <a:gridCol w="2226960"/>
              </a:tblGrid>
              <a:tr h="82260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јчешће примењивани стабилизатори расположењ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Лек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рапијске концентрације у серу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псег доза, mg/d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ијум карбона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-1.2 mmol/l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- 2400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бамазеп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2 mg/l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-2400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порат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120 mg/l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-3000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билизатор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оложе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поларног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нич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пресив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изод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рмако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азич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онен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Прва</a:t>
            </a:r>
            <a:r>
              <a:rPr b="1" lang="sr-Latn-C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линија</a:t>
            </a:r>
            <a:r>
              <a:rPr b="1" lang="sr-Latn-CS" sz="2000" spc="-1" strike="noStrike" u="sng">
                <a:solidFill>
                  <a:srgbClr val="ff0000"/>
                </a:solidFill>
                <a:uFillTx/>
                <a:latin typeface="Arial"/>
              </a:rPr>
              <a:t>-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стабилизатори</a:t>
            </a:r>
            <a:r>
              <a:rPr b="1" lang="sr-Latn-C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расположења</a:t>
            </a:r>
            <a:r>
              <a:rPr b="1" lang="sr-Latn-CS" sz="2000" spc="-1" strike="noStrike" u="sng">
                <a:solidFill>
                  <a:srgbClr val="ff0000"/>
                </a:solidFill>
                <a:uFillTx/>
                <a:latin typeface="Arial"/>
              </a:rPr>
              <a:t> (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литијум</a:t>
            </a:r>
            <a:r>
              <a:rPr b="1" i="1" lang="sr-Latn-CS" sz="2000" spc="-1" strike="noStrike" u="sng">
                <a:solidFill>
                  <a:srgbClr val="ff0000"/>
                </a:solidFill>
                <a:uFillTx/>
                <a:latin typeface="Arial"/>
              </a:rPr>
              <a:t>,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валпроат</a:t>
            </a:r>
            <a:r>
              <a:rPr b="1" i="1" lang="sr-Latn-CS" sz="2000" spc="-1" strike="noStrike" u="sng">
                <a:solidFill>
                  <a:srgbClr val="ff0000"/>
                </a:solidFill>
                <a:uFillTx/>
                <a:latin typeface="Arial"/>
              </a:rPr>
              <a:t>,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карбамазепи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50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цијана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вољ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но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билизатор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положе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цијен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сихотич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ик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лоридн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мптом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иску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истовремену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римену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табилизатор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расположењ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антипсихотик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често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бензодиазеп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во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ни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раже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жеље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фека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рименити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атипичне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антипсихоти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исперид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ланзапи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ипрасид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уго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ни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вету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ич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типсихот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алоперидо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лорпромази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ијум – механизам деј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07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јачава пренос сигнала преко рецептора везаних са систем секундарних гласника – фосфатидилинозитол –бифосфата  (ПИП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њује се орал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тијум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реб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ради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е прове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реоид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ун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К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в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еатин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ре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ру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ај ТДМ-А код примене литијума (одређивања концентрације литијума у крви 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ет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300-6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рапијс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900-18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обичаје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900-1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ређу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ију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тимал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ију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0,6-1,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мол/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ију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ређ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очиња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армаколошка терапија депресије – основне групе антидепресива са представниц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рициклични антидепреси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лективни инхибитори преузимања серотонина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(SS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типични антидепреси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хибитори моноаминоксидазе (МА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ај ТДМ-А код примене литијума (одређивања концентрације литијума у крви 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оксик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авља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мол/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ш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оксика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мол/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жељени ефекти :хипотиреоза, главобоља, сува уста, полидипсија, полиурија, полифагија, дигестивне сметње, фини тремор руку, реакције на кожи, умор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абилизатори расположења  - антиепилептиц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рбамазепин, валпроична киселина, ламотригин, габапент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лпроат – пре почетка терапије – провера функције јетре и крвне слике пацијен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алпро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апијс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ећ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он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750-2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з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епе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аћава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3-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тимал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в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олиш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нич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со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жеље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фека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а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г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ов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тимал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в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ећ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50-1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мг/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ahoma"/>
              </a:rPr>
              <a:t>.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абилизатори расположења – атипични антипсихотиц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типични антипсихот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сперидон, оланзапин, зипрасидон, арипипразиол, кветиапин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прес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моноаминска теор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ањена количина или функционисање моноамина доприносе настанку депресије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пресија - патофизи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уротрофна теор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пресија је повезана са губитком фактора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ain –derived neurotrophic fa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убитак овог фактора доводи до настанка атрофије у различитим деловима мозга 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Значајан је и допринос неуроендокриних фактора – МДД је повезана са повећаном количином кортизола, изостанком супресије АТЦХ-а у дексаметазонском тесту супресије... (поремећај регулације осе стреса!!!!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емећена функције тироидне жлезде у 25% оболелих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достатак полних хормона!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прес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 три теорије тесно повезане!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мећаји хипоталамус-хипофизне осе и полних хормона могу допринети смањењу стварања BDNF ге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онични стрес – повећава количину гликокортикоида и такође смањује BDN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онична активација моноаминима у лечењу депресије има супротан ефекат!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рмаколошки приступ у лечењу депресије 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идепреси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Селективни блокатори преузимања серотонина – SSR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луоксетин, циталoпрaм, есциталопрaм, флувоксамин, пароксетин и сертрали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Инхибитори преузимања серотонина и норадренали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венлафаксин, дулоксетин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милнаципра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9:01:49Z</dcterms:created>
  <dc:creator>Marina Kostic</dc:creator>
  <dc:description/>
  <dc:language>en-US</dc:language>
  <cp:lastModifiedBy>Marko</cp:lastModifiedBy>
  <dcterms:modified xsi:type="dcterms:W3CDTF">2020-02-10T08:17:18Z</dcterms:modified>
  <cp:revision>116</cp:revision>
  <dc:subject/>
  <dc:title>Slide 1</dc:title>
</cp:coreProperties>
</file>